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E306-F2F6-46F5-B97E-2DEB1A85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06BE-681B-4270-B952-08107A3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BD8B-9B4B-4D2F-98CF-BCB1141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4526-0745-4E61-80F8-CC9C9747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A58-51C5-4C01-8CC5-DDA7ED3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C70C-CBCA-4181-9301-AE8ADFAC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4051-169B-4B93-9080-20CF9BC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B73-07AE-4295-A579-D9D1C464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C6C5-CFD7-48D2-83E1-A5E2341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B033-FF27-4F77-AC07-3DBEA26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DD82-8F76-404F-BDAE-CF919BE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8876-5C3C-4898-8F2A-AD21A9D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2438-E5F4-45BE-94E2-0F5724C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F7F-A0F5-4E62-9A69-3EAFE3A9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1F7-844A-4293-9254-B169B825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8AE2-76ED-417F-9D2E-69245B43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B2FC-2329-42A4-A952-4140BB4D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F760-F7FF-4330-8681-28E3234A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F0CF-512B-4552-A705-87169C1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2600-42E4-4627-BC11-22A7200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48AE-5EB8-4B4B-8AE3-CA3745F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5F80-06B7-48FC-A6CF-FB9FB0B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2F0F-1829-4576-BC76-90ADA66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C0DA-EA01-4CC7-9414-32782D9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C21E-DE7C-4F1B-BD42-01BB9924680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388F-FCCF-477C-BEC8-B4B848A61E8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fdef6"/>
                </a:solidFill>
                <a:uFillTx/>
                <a:latin typeface="Arial"/>
              </a:rPr>
              <a:t>Korrosion (allg. Rost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9200" cy="464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el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stehend aus ANODE und KATHODE in Berührung mit einer leitenden Flüssig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Edlere Werksto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Kathode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unedler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Anode, in einem Elektrolyt führt zu einer anodischen Auflösung (Oxidation) des unedleren durch Elektronenabga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potenzial ist proportional zur Höhe der elektrochem.Span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ildung von Anode und Kath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 unterschiedliche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 Oberflächen (Bildung von Lokalelemen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ügebestandteile heterogener Legier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schiedliche Spannungs- und Verformungsbereiche (gekantetes Ble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Lokalelem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26800" y="2162880"/>
            <a:ext cx="50922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lektrochemische Sauerstoffkorrosion feuchter Stahloberfläc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37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08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verschiedene Werkstoff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1825560"/>
            <a:ext cx="79675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influssgrößen der Kontaktkorrosionsgefahr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zialdiffer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zusammensetz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ächenverhältnis des edleren zum unedleren 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malspannungsreihe liefert für die Praxis keine brauchbaren Ergebni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sche Spannungsreihen als Hi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lektrische Trennung wäre optim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wirken von Sauerstoff; Salzen; Gasen; Säuren auf die Metalloberfläche, wobei eine chemische Verbindung entste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bei spielt der Sauerstoff eine wesentliche Rolle, der mit den Metallen dass Metalloxid bild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 typisches Beispiel für chemische Korrosion ist das Zundern von Stahl. Bei hoher Temperatur reagiert der Luftsauerstoff unmittelbar mit dem Eisen, es bildet sich Eisenox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Zundern von St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418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Metallphysikalische Rea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 Art der Reaktion tritt nur sehr selten auf, z.B. bei der ,,Zinnpest". Hierbei zerfällt das Zinn bei sehr tiefen Temperaturen durch Gitterumwandl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ichmäßige Flächen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den- und Loch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lt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nungsriss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ktive 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lied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rtschaftlicher Schaden durch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griff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arten (chemische Vorgä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 und ihr Erscheinungsb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ssiv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schu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uch zur elektrochem.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5784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9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41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712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4068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487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ierung der Metalloberfläche durch Bildung einer haltbaren, dichten Oxidsch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Ch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p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Oxidschicht bei Stahl locker und porös,  Metall keinen Schutz. Korrodiert bis zur vollständigen Auflös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wahl geeigneter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gerechte Konstru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taktkorrosionsstellen sind auszusc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palte sind zu vermei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öglichst glatte Oberflächen sind zu schaffen, z.B. durch Abschleifen oder Pol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schichten auf Eisenwerkstof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todischer Korrosionsschutz (mit Opferanode oder Fremdstroma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gerechte Konstru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58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schicht auf Stah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2946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Wirtschaftlicher Schaden durch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% des Bruttosozialproduktes eines Landes gehen verlore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Kosteneinsparung möglich, wenn Kenntnisse über Korrosion und Korrosionsschutz technisch besser genutzt würd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chutzmetallschich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zu schützende Metall muss edler als das Überzugsmetall se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Verletzung der Schicht löst sich das Schutzmetall au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berzugmetall ist edler als das zu schützende Met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un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Katodischer 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wußte Erzeugung eines Korrosionselem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 schützende Metall ist die Kathode, das zu opfernde Metall ist die Anode, es muss unedler als der Kathodenwerkstoff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Opferano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vanischer Vorg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undärer Korrosions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332000" y="2924280"/>
            <a:ext cx="66247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Fremdstro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olytischer Vorg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k. 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stellen der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rderl. Schutz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romdich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Versuch zur elektrochemischen 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ezu gesättigte Salzwasserlösung (Salzgehalt ca. 35 % hohe Leitfähigkei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chiedenartige Korrosionselemente in der Salzlös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gabe zur 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definition DIN 50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riff und Zerstörung metallischer Werkstoffe durch Reaktionen mit Wirkstoffen aus der Umgebung. (lat. corrodere = zernag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produkt (z.B. Rost) kann löslich, unlöslich oder auch festhaftend s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t chem. FeO(OH)  Eisenoxidhydroxi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Durch Korrosion geht Werkstoff verlore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wächung des Querschni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Verletzung der Oberflä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s Korrosionsprodukt hat ein größeres Volu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Von einem Korrosionsschaden spricht man jedoch erst, wenn die Funktion beeinträchtigt ist.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ispiele für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ar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lektrochemisch (häufig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tallphysikalisch (selten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Erosionskorrosion durch Festkörper-  teilch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 Gebrauchsmetalle befinden sich im unstabilen Zu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 wollen wieder in ihre Oxide oder Sulfide aus denen sie gewonnen wurden zurückke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reben des Metalls seine Ionen in die Lösung zu se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 alle Korrosionsvorgänge   sind elektrochemischer Natur, ihr Mechanismus entspricht einem galvanischen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chtigkeitsfilm als Elektrolyt, Handschweiß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reste in Spal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5878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8:09Z</dcterms:created>
  <dc:creator>M</dc:creator>
  <dc:description/>
  <dc:language>en-US</dc:language>
  <cp:lastModifiedBy>BF20-04</cp:lastModifiedBy>
  <dcterms:modified xsi:type="dcterms:W3CDTF">2005-12-26T18:46:51Z</dcterms:modified>
  <cp:revision>77</cp:revision>
  <dc:subject/>
  <dc:title>Korrosion</dc:title>
</cp:coreProperties>
</file>